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D781-C14E-4119-AECD-53A04CF1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76C-252F-4980-A91C-9895C9F3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518-6EEA-41AB-9A0E-361DFAA6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FE5-373C-4538-AE03-F1CAE91A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93D9-6FC1-466D-8064-21DE8BE7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C005-5CA4-4916-BDC8-B8478360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6C02-EBE7-431E-83DC-5A099500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5495-FE44-4213-AF7D-1E0D834D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498D-016D-4C0D-944D-8DF218ED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693F-1FA5-4302-B23A-8028B559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ACFE-DCD5-493C-9514-701F0E7F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5FB-6A1C-4A62-8107-C39C6FE9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368A-1938-4B06-9E9B-C4B5EAC7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7541-2C00-4AEA-92FA-126E3E4F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43B4-61D7-4F3C-8C0A-E23617C8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C586-80D5-4C7C-B893-6780F04E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F97D-D307-4FA1-9364-C618D301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044A4-8BCC-4D8D-BB0B-932936CB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F12BF-1E51-4823-8A65-FDA69C18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D8023-C8B1-4AF1-84AF-ADD7B35B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BE93F-0CDA-4F67-93D3-85D9484D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3828-B1E2-44CA-AB88-1C22B86F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D12-B82F-4D6E-A4FE-CB13A74E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3E991-C4A1-47F5-B713-6D7A2DEC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954A2-958D-48BA-B321-5D283623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FD03-AA7E-40A1-AA32-3BFC4BE4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3E9C-4E59-434F-AF6D-5DF6727D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D00A1-D5C1-487D-8581-8AB134BB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BC37F-37F2-4D2A-B794-413D3E95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82256-2A45-43EE-906C-CB42CD46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D46CF-C04C-4AF6-8DAA-0153B032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D11DD-7F8D-4376-A3DE-2DDF93E5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A3C5B-DF95-4F67-8329-92762B1C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08F-416F-431C-AFF6-F2057DF7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3583C-6820-4770-8F37-A0408911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2B99-D06C-42A5-908E-5024750A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22215-D99C-4D28-AAED-D9E75C74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6F395-4912-4306-BDC8-CFC9CA7E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BA783-E206-4F56-8C1C-255F36F5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7D6B8-FBE6-49AB-8DDA-71E3AE5C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EA94D-B9B8-46FF-97DA-A30251E3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8D912-9040-4340-B146-425A4B90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2E880-4082-4CBA-B13D-F2FF6686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8F2-7135-447F-8B8A-C9F4C3A0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1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692-33BE-4ABE-BF29-EC47199A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78100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512240"/>
            <a:ext cx="250236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432-73CA-4443-A146-6B50277A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51224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F29-AF5B-4EB6-8B73-F19D35CE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81000"/>
            <a:ext cx="37926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512240"/>
            <a:ext cx="7772400" cy="15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567-3390-44C1-9F07-3ADF7FF0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A98A-FCEA-4C11-8198-AE214B69F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AA60-332A-42A0-B26A-6B4B1D9AC22F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F432-4E24-4EDC-A300-3715CCF8628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69F7-EBC8-4568-A19C-70076AC8F3A0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50EE-5953-4713-92F5-65F45E29853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6 Imagen" descr="Sin título-2.png"/>
          <p:cNvPicPr/>
          <p:nvPr/>
        </p:nvPicPr>
        <p:blipFill>
          <a:blip r:embed="rId3"/>
          <a:stretch/>
        </p:blipFill>
        <p:spPr>
          <a:xfrm>
            <a:off x="276120" y="0"/>
            <a:ext cx="88678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4A27-C7D2-46EC-BAA4-EC2143A11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6 Imagen" descr="Sin título-1.png"/>
          <p:cNvPicPr/>
          <p:nvPr/>
        </p:nvPicPr>
        <p:blipFill>
          <a:blip r:embed="rId3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0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285840" y="4394160"/>
            <a:ext cx="618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Arial MT"/>
                <a:ea typeface="Arial Unicode MS"/>
              </a:rPr>
              <a:t>Uso y análisis de resultados de la Evaluación Externa - SA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285840" y="5425920"/>
            <a:ext cx="85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 MT"/>
                <a:ea typeface="Arial Unicode MS"/>
              </a:rPr>
              <a:t>Bogotá, 25 de noviembre de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7 Conector recto"/>
          <p:cNvSpPr/>
          <p:nvPr/>
        </p:nvSpPr>
        <p:spPr>
          <a:xfrm>
            <a:off x="357120" y="5286240"/>
            <a:ext cx="664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7 Conector recto"/>
          <p:cNvSpPr/>
          <p:nvPr/>
        </p:nvSpPr>
        <p:spPr>
          <a:xfrm>
            <a:off x="357120" y="5286240"/>
            <a:ext cx="664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285840" y="3933720"/>
            <a:ext cx="61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Arial MT"/>
                <a:ea typeface="Arial Unicode MS"/>
              </a:rPr>
              <a:t>Mónica López Cast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Arial MT"/>
                <a:ea typeface="Arial Unicode MS"/>
              </a:rPr>
              <a:t>Directora de Calidad de la Educación</a:t>
            </a:r>
            <a:r>
              <a:rPr b="0" i="1" lang="en-US" sz="2400" spc="-1" strike="noStrike">
                <a:solidFill>
                  <a:srgbClr val="0d0d0d"/>
                </a:solidFill>
                <a:latin typeface="Arial MT"/>
                <a:ea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Arial MT"/>
                <a:ea typeface="Arial Unicode MS"/>
              </a:rPr>
              <a:t>Preescolar, Básica y Med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20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Objetivos de la evaluación 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ear las compentecias y su desarrollo (conocimientos, habilidades y valor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Promoveer el mejoramiento de la calidad educativa en el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cionar información objetiva a todos los sectores para la toma de decisiones, desarrollo de política pública y orientación de planes de mejor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20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y análisis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la evaluación externa se esp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orcionar información sobre los descriptores de competencias de los estudiantes en las entidades territoriales certificadas, regiones, sectores y establecimientos educ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veer información sobre la calidad de la educación básica y media en cuanto al desempeño de los estudiantes en las pruebas externas 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troalimentar el ejercicio de los docentes en el desarrollo de las compete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lizar una caracterización de los principales elementos q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n el estado de desarrollo educ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entivar  a las entidades territoriales certificadas para desarrollar la cultura del mejoramiento continu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0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y análisis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veer la información básica para la elaboración de los planes territoriales y de apoyo de las entidades certificadas en edu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ortar información de referencia para la toma de decisiones en los diferentes sectores y niveles de la administración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over el aprovechamiento de la información generada p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Ministerio de Educación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mentar la investigación en los diferentes ámbitos de la educación para contribuir al mejoramiento de su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ltivar el interés por el uso de la información educativa para la autogestión y el progreso de las entidades territor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20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os de información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278100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Referentes de calidad: Estádares básicos de competencias, orientaciones, documentos y guías producidos por el Ministerio de Educación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Bases de datos del FTP del ICFES de SABER 5, 9, 11 y P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ías de orientación e interpretación de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licativo de resultados de pruebas exter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os de análisis: Mapas, infor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7 Conector recto"/>
          <p:cNvSpPr/>
          <p:nvPr/>
        </p:nvSpPr>
        <p:spPr>
          <a:xfrm>
            <a:off x="357120" y="5286240"/>
            <a:ext cx="664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285840" y="3933720"/>
            <a:ext cx="61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Arial MT"/>
                <a:ea typeface="Arial Unicode MS"/>
              </a:rPr>
              <a:t>Grac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3:49:45Z</dcterms:created>
  <dc:creator>EMAC</dc:creator>
  <dc:description/>
  <dc:language>en-US</dc:language>
  <cp:lastModifiedBy>Raúl Aramendi García</cp:lastModifiedBy>
  <dcterms:modified xsi:type="dcterms:W3CDTF">2010-11-25T05:13:10Z</dcterms:modified>
  <cp:revision>128</cp:revision>
  <dc:subject/>
  <dc:title>PowerPoint Presentation</dc:title>
</cp:coreProperties>
</file>